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12193588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77820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356760" y="1240920"/>
            <a:ext cx="59547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66360" y="477792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77820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F452-D790-4B81-A222-737B59BE6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66360" y="477792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77820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CA90-5589-458E-9C3C-55B11C82C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7C4C-8356-456C-97DE-0A166E93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E87-DFF6-46C1-9CE3-38237691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CD5-B3FE-43FC-869A-330C6ACD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CBA-EBC5-4852-AD3E-3F042F74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DCAF-3468-4A89-8974-D77DEAFF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CBDC-6245-441B-9A76-4B48ECC9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9A37-ECCD-4103-BB9E-3F9E910A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4580-6E43-42BA-BF09-4FA87945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0913-4C74-4FE5-AB57-0DD49FDF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0AB3-333C-4E4E-B46C-FCC8C1AC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F253-382F-4CD0-A675-5B9374A5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902C-CCB8-438D-8AAB-5FDFB731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6358-B660-49C3-A143-F18934CD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9F0E-F6BC-4A81-8AE6-B5F6C0F3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0DF6-A63A-4710-A8FB-D5D0EF20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5DA8-344A-40A7-9C52-A1D9FF9D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DAF1-F929-445B-855A-19CFD2D7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3227C-B16E-4210-8335-8983B32A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90E36-92B9-4ABE-80F0-04301DEC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17211-CBB1-483D-A2BA-F9AB82BB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AE290-1C89-46FC-8F7B-E499DD70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17E4B-170A-436E-B754-608730BA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1C36-791C-435E-858D-5B41B954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5FAB8-5838-4D89-82AE-E5941D0D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FB91A-85CB-49CD-BA70-F7A97CF7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F7B25-101F-4A3A-9074-73E05D75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6ED6E-37EE-41F8-BD57-09DBCF50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AE885-F7B3-40D0-A27E-3BB13796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4AAFB-B18F-487E-8B10-E7A244E0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8D1F4-884D-41FC-B634-AD2FF6DE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1604-9118-44F4-8885-3B068DC2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0685-F2ED-4E7C-8B91-0385E3E0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1D9-72BA-49E5-9116-BFE19E34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7BA-44A2-4EEE-AB8F-A39A510C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5755-6AD2-4B12-9E9E-2503D7E2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B0C-E181-46BC-A891-FE57DA02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9C5F-89E3-4AEA-A0A0-B4F5312A60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3AF0-98C8-428E-86A2-BF819D25B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5CCF-4E7F-4295-A239-821ABA64AF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AF5E-DB3B-4655-91E9-4BAE2399C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874B-DFD7-4587-9ED5-87578DC63D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4145-9098-4C43-B588-75E440017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cc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7030a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460520" y="2087640"/>
            <a:ext cx="770904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of Core Train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G Management of  Diabetes In Pregnanc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SE DISCUSSION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rcRect l="24844" t="12660" r="40727" b="22364"/>
          <a:stretch/>
        </p:blipFill>
        <p:spPr>
          <a:xfrm>
            <a:off x="9315360" y="2665440"/>
            <a:ext cx="2675160" cy="404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graphicFrame>
        <p:nvGraphicFramePr>
          <p:cNvPr id="134" name=""/>
          <p:cNvGraphicFramePr/>
          <p:nvPr/>
        </p:nvGraphicFramePr>
        <p:xfrm>
          <a:off x="3367080" y="4068720"/>
          <a:ext cx="4064040" cy="2500200"/>
        </p:xfrm>
        <a:graphic>
          <a:graphicData uri="http://schemas.openxmlformats.org/drawingml/2006/table">
            <a:tbl>
              <a:tblPr/>
              <a:tblGrid>
                <a:gridCol w="4064040"/>
              </a:tblGrid>
              <a:tr h="112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. Nurain Mohd. No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ultant Endocrinologi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pital Putraja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. Nazatul Syima Idrus</a:t>
                      </a:r>
                      <a:br>
                        <a:rPr sz="18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rmacist &amp; Principal Assistant Director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rmaceutical Services Di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stry of Health Malays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65160" y="1806480"/>
          <a:ext cx="12061800" cy="625680"/>
        </p:xfrm>
        <a:graphic>
          <a:graphicData uri="http://schemas.openxmlformats.org/drawingml/2006/table">
            <a:tbl>
              <a:tblPr/>
              <a:tblGrid>
                <a:gridCol w="12061800"/>
              </a:tblGrid>
              <a:tr h="625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glucose targ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227160" y="2452680"/>
            <a:ext cx="11737800" cy="2127240"/>
          </a:xfrm>
          <a:prstGeom prst="rect">
            <a:avLst/>
          </a:prstGeom>
          <a:ln w="0">
            <a:noFill/>
          </a:ln>
        </p:spPr>
      </p:pic>
      <p:sp>
        <p:nvSpPr>
          <p:cNvPr id="171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2CBD-33A2-4505-B7BD-4E88F9D68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e next step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metform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inue diet and lifestyle modification for another 2 week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asal insulin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prandial insul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k patient to monitor post prandial blood glucose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9080" y="25560"/>
          <a:ext cx="12160080" cy="1062000"/>
        </p:xfrm>
        <a:graphic>
          <a:graphicData uri="http://schemas.openxmlformats.org/drawingml/2006/table">
            <a:tbl>
              <a:tblPr/>
              <a:tblGrid>
                <a:gridCol w="1216008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75" name="Rounded Rectangle 3"/>
          <p:cNvSpPr/>
          <p:nvPr/>
        </p:nvSpPr>
        <p:spPr>
          <a:xfrm>
            <a:off x="208080" y="3692520"/>
            <a:ext cx="5073480" cy="828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94CE-D57B-4584-BAC2-D0252B895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282600" y="1184400"/>
            <a:ext cx="112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the initial dos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5160" y="3732120"/>
          <a:ext cx="12061800" cy="862200"/>
        </p:xfrm>
        <a:graphic>
          <a:graphicData uri="http://schemas.openxmlformats.org/drawingml/2006/table">
            <a:tbl>
              <a:tblPr/>
              <a:tblGrid>
                <a:gridCol w="12061800"/>
              </a:tblGrid>
              <a:tr h="862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81" name="Rectangle 2"/>
          <p:cNvSpPr/>
          <p:nvPr/>
        </p:nvSpPr>
        <p:spPr>
          <a:xfrm>
            <a:off x="282600" y="4816440"/>
            <a:ext cx="1142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with 0.2u/k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ed on insulatard 14u 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6600" y="63360"/>
          <a:ext cx="12061800" cy="862200"/>
        </p:xfrm>
        <a:graphic>
          <a:graphicData uri="http://schemas.openxmlformats.org/drawingml/2006/table">
            <a:tbl>
              <a:tblPr/>
              <a:tblGrid>
                <a:gridCol w="12061800"/>
              </a:tblGrid>
              <a:tr h="862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83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9A50-FA1D-4CD9-B998-255344573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-38160" y="1555920"/>
            <a:ext cx="12230280" cy="33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63360" y="914400"/>
          <a:ext cx="12060360" cy="64152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641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lin initi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894A-8FB3-43C7-AEEB-045829CDC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282600" y="1050840"/>
            <a:ext cx="11225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often does she need to perform SMB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he feels un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meal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bed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heavy m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 and post-me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4280" y="4176720"/>
          <a:ext cx="12147840" cy="861840"/>
        </p:xfrm>
        <a:graphic>
          <a:graphicData uri="http://schemas.openxmlformats.org/drawingml/2006/table">
            <a:tbl>
              <a:tblPr/>
              <a:tblGrid>
                <a:gridCol w="12147840"/>
              </a:tblGrid>
              <a:tr h="861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65160" y="33480"/>
          <a:ext cx="12061800" cy="861840"/>
        </p:xfrm>
        <a:graphic>
          <a:graphicData uri="http://schemas.openxmlformats.org/drawingml/2006/table">
            <a:tbl>
              <a:tblPr/>
              <a:tblGrid>
                <a:gridCol w="12061800"/>
              </a:tblGrid>
              <a:tr h="861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92" name="Rectangle 1"/>
          <p:cNvSpPr/>
          <p:nvPr/>
        </p:nvSpPr>
        <p:spPr>
          <a:xfrm>
            <a:off x="3369600" y="5416560"/>
            <a:ext cx="537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. Pre- and post-me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2411-0FC3-469F-B946-895C6F2D7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itorin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95" name="Footer Placeholder 5"/>
          <p:cNvSpPr/>
          <p:nvPr/>
        </p:nvSpPr>
        <p:spPr>
          <a:xfrm>
            <a:off x="4038480" y="649764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rcRect l="18629" t="41053" r="17373" b="26019"/>
          <a:stretch/>
        </p:blipFill>
        <p:spPr>
          <a:xfrm>
            <a:off x="228600" y="1716120"/>
            <a:ext cx="11779200" cy="340848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085C-A8F9-4156-9191-6CE315B3E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nderstand how to initiate appropriate management of diabetes in pregnanc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roper monitoring blood glucose is important for treatment deci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nderstand how to initiate insulin treatment according to the blood glucose level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Arial"/>
                <a:ea typeface="Arial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 message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01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82E3-7BE9-4DFB-B76A-BC69391F2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CASE 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1FDF-92F8-47A6-99F1-204C0693E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5 year old lady, G4 P3 at 12 weeks gest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/o GDM in the last pregnanc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nly on diet treat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aby’s weight 4 k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es to clinic for book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andom blood glucose:12 mmol/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tor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07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B8C7-26D6-4750-B04D-3DC87E919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17640" y="579600"/>
          <a:ext cx="12160080" cy="1828800"/>
        </p:xfrm>
        <a:graphic>
          <a:graphicData uri="http://schemas.openxmlformats.org/drawingml/2006/table">
            <a:tbl>
              <a:tblPr/>
              <a:tblGrid>
                <a:gridCol w="6080040"/>
                <a:gridCol w="6080040"/>
              </a:tblGrid>
              <a:tr h="4575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571680" indent="-398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536400" indent="-363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6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536400" indent="-363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kg/m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1680" y="3444840"/>
          <a:ext cx="12160440" cy="914400"/>
        </p:xfrm>
        <a:graphic>
          <a:graphicData uri="http://schemas.openxmlformats.org/drawingml/2006/table">
            <a:tbl>
              <a:tblPr/>
              <a:tblGrid>
                <a:gridCol w="6080040"/>
                <a:gridCol w="6080400"/>
              </a:tblGrid>
              <a:tr h="4575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od t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marL="438120" indent="-342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 mmol/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4CE9-136C-4405-9A10-D4F175BD8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CASE 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D90C-B4EE-49C4-A5C1-C21123887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do you manage this patie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e back with OGT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insulin immediatel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formin should be start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 to the ophthalmologist for eye assessmen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ss renal fun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9080" y="25560"/>
          <a:ext cx="12160080" cy="1062000"/>
        </p:xfrm>
        <a:graphic>
          <a:graphicData uri="http://schemas.openxmlformats.org/drawingml/2006/table">
            <a:tbl>
              <a:tblPr/>
              <a:tblGrid>
                <a:gridCol w="1216008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15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BEC8-31F0-465F-A4B2-2C96771AC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iagnosed in the presence of any one or more of these result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1092240" indent="-571680" algn="just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FPG ≥7.0 mmol/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1092240" indent="-5716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-HPP ≥11.1 mmol/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1092240" indent="-5716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PG ≥11.1 mmol/L with symptom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t diabete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20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CB04-AA74-4BC2-BDED-64953AC2F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 algn="just">
              <a:lnSpc>
                <a:spcPct val="100000"/>
              </a:lnSpc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Screening for gestational diabetes mellitus based on risk factors using 75 gram oral glucose tolerance test (OGTT) should be done at boo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If the test is negative, it should be repeated at 24-28 weeks of ges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For women at the age of 25 or more with no other risk factors, OGTT should be done at 24-28 weeks of ges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Overt diabetes in pregnancy should be managed as pre-existing diabet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ation 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24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3306-2683-46FD-8668-BE1E0CAB4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ow do you manage this patient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me back with OGT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art insulin immediatel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etformin should be started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nt to the ophthalmologist for eye assessmen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ssess renal fun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28" name="Rounded Rectangle 2"/>
          <p:cNvSpPr/>
          <p:nvPr/>
        </p:nvSpPr>
        <p:spPr>
          <a:xfrm>
            <a:off x="233280" y="2679840"/>
            <a:ext cx="6440400" cy="828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ounded Rectangle 5"/>
          <p:cNvSpPr/>
          <p:nvPr/>
        </p:nvSpPr>
        <p:spPr>
          <a:xfrm>
            <a:off x="233280" y="4105440"/>
            <a:ext cx="11633400" cy="1849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8153280" y="2862360"/>
            <a:ext cx="344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Answer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9806-EE59-4C17-8873-93A206BE2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4203360"/>
            <a:ext cx="12160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at type of insulin to start and how to start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2687760"/>
          <a:ext cx="12192120" cy="106200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35" name="Rectangle 2"/>
          <p:cNvSpPr/>
          <p:nvPr/>
        </p:nvSpPr>
        <p:spPr>
          <a:xfrm>
            <a:off x="0" y="1111320"/>
            <a:ext cx="1219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2200" indent="-528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Insulin therapy initiated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F845-1DBA-4423-8422-646119DDE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6240" y="684360"/>
            <a:ext cx="120618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ulin init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ulin requ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87200" y="1025640"/>
            <a:ext cx="11862000" cy="3246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423720" y="4524480"/>
            <a:ext cx="11588760" cy="21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66600" y="63360"/>
          <a:ext cx="12061800" cy="582840"/>
        </p:xfrm>
        <a:graphic>
          <a:graphicData uri="http://schemas.openxmlformats.org/drawingml/2006/table">
            <a:tbl>
              <a:tblPr/>
              <a:tblGrid>
                <a:gridCol w="12061800"/>
              </a:tblGrid>
              <a:tr h="582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42" name="Rounded Rectangle 6"/>
          <p:cNvSpPr/>
          <p:nvPr/>
        </p:nvSpPr>
        <p:spPr>
          <a:xfrm>
            <a:off x="66600" y="1701720"/>
            <a:ext cx="11982600" cy="828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ounded Rectangle 7"/>
          <p:cNvSpPr/>
          <p:nvPr/>
        </p:nvSpPr>
        <p:spPr>
          <a:xfrm>
            <a:off x="0" y="5068800"/>
            <a:ext cx="12128400" cy="5540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D74A-E23C-4697-A086-BEA2675D0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90160" y="274320"/>
            <a:ext cx="11611080" cy="87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tarted on insulatard 12 u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Arial"/>
                <a:ea typeface="Arial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7640" y="961920"/>
          <a:ext cx="12191760" cy="19814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  <a:gridCol w="3048120"/>
                <a:gridCol w="3047760"/>
              </a:tblGrid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 breakfast  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 lu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 di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 b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ACF3-8C0B-48D4-837E-CE6E77F23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What is the next step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Increase insulatard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Ask patient not to eat too much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Add bolus human insul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Add bolus rapid insulin analogu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52" name="Rounded Rectangle 2"/>
          <p:cNvSpPr/>
          <p:nvPr/>
        </p:nvSpPr>
        <p:spPr>
          <a:xfrm>
            <a:off x="233280" y="3411360"/>
            <a:ext cx="8594640" cy="828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9074160" y="3503520"/>
            <a:ext cx="25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Answer 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8B89-8CDD-4935-9E34-A21592EB5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6240" y="684360"/>
            <a:ext cx="120618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ulin init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ulin requ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187200" y="1025640"/>
            <a:ext cx="11862000" cy="3246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2"/>
          <a:stretch/>
        </p:blipFill>
        <p:spPr>
          <a:xfrm>
            <a:off x="423720" y="4524480"/>
            <a:ext cx="11588760" cy="21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66600" y="63360"/>
          <a:ext cx="12061800" cy="582840"/>
        </p:xfrm>
        <a:graphic>
          <a:graphicData uri="http://schemas.openxmlformats.org/drawingml/2006/table">
            <a:tbl>
              <a:tblPr/>
              <a:tblGrid>
                <a:gridCol w="12061800"/>
              </a:tblGrid>
              <a:tr h="582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60" name="Rounded Rectangle 6"/>
          <p:cNvSpPr/>
          <p:nvPr/>
        </p:nvSpPr>
        <p:spPr>
          <a:xfrm>
            <a:off x="73080" y="2530440"/>
            <a:ext cx="11982240" cy="1592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7D7E-0998-4F39-A813-E062537AF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90160" y="274320"/>
            <a:ext cx="11611080" cy="87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On SC actrapid 8 unit TDS, insulatard 16 unit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Arial"/>
                <a:ea typeface="Arial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5160" y="3352680"/>
          <a:ext cx="12061800" cy="731880"/>
        </p:xfrm>
        <a:graphic>
          <a:graphicData uri="http://schemas.openxmlformats.org/drawingml/2006/table">
            <a:tbl>
              <a:tblPr/>
              <a:tblGrid>
                <a:gridCol w="12061800"/>
              </a:tblGrid>
              <a:tr h="731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hours post-meal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17640" y="961920"/>
          <a:ext cx="12191760" cy="19814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  <a:gridCol w="3048120"/>
                <a:gridCol w="3047760"/>
              </a:tblGrid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-breakfast  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-lu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-di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-b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1749600" y="4191120"/>
          <a:ext cx="9144000" cy="14014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  <a:gridCol w="3048120"/>
              </a:tblGrid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st-breakfast  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st-lu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st-di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6E79-173D-4142-A074-5A71F2BDC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5 year old lady, G1 P0 at 16 weeks ges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 medical illnes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GTT done due to risk factor - mother has T2D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149480" indent="-5288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OGTT result: 6.0/7.8 mmol/L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tor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40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BA41-00EF-4F46-A75D-434D0ED9E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What is the next step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Increase insulatard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Ask patient not to eat too much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Add bolus human insul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Switch to bolus rapid insulin analogu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71" name="Rounded Rectangle 2"/>
          <p:cNvSpPr/>
          <p:nvPr/>
        </p:nvSpPr>
        <p:spPr>
          <a:xfrm>
            <a:off x="233280" y="4240080"/>
            <a:ext cx="9809280" cy="828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7753320" y="3511440"/>
            <a:ext cx="25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Answer 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BECC-2B7F-429E-A42F-8749816C3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Both rapid- and long-acting (basal) are as efficacious as human insul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056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ssociated with fewer incidences of hypoglyca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056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Long-acting analogues have benefit in diabetic pregnant women with repeated nocturnal hypoglyca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056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ll insulin are considered safe and have low risk in pregnancy except for insulin glulisine and glargine where they should be given only when potential benefit outweigh the potential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056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No evidence to support the use of glulisine in pregna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ulin Analogu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77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DD62-A3C8-4764-89A8-8D648D6F1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derstand the importance of diagnosing overt diabetes in pregnancy and its management as pre-existing diabet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derstand the appropriate method of initiating insulin for managing diabetes in pregnanc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derstand the use of insulin analogues in post prandial hyperglycaemia and hypoglycaemi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 message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81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87A9-71B9-4D30-9CE7-19C6522E5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2C00-0F30-45F9-89DC-D1547E83C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at is the diagnos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9080" y="25560"/>
          <a:ext cx="12160080" cy="1062000"/>
        </p:xfrm>
        <a:graphic>
          <a:graphicData uri="http://schemas.openxmlformats.org/drawingml/2006/table">
            <a:tbl>
              <a:tblPr/>
              <a:tblGrid>
                <a:gridCol w="1216008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0" y="3059280"/>
          <a:ext cx="12179160" cy="873000"/>
        </p:xfrm>
        <a:graphic>
          <a:graphicData uri="http://schemas.openxmlformats.org/drawingml/2006/table">
            <a:tbl>
              <a:tblPr/>
              <a:tblGrid>
                <a:gridCol w="12179160"/>
              </a:tblGrid>
              <a:tr h="873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45" name="Rectangle 2"/>
          <p:cNvSpPr/>
          <p:nvPr/>
        </p:nvSpPr>
        <p:spPr>
          <a:xfrm>
            <a:off x="19080" y="4635360"/>
            <a:ext cx="1219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stational diabetes mellit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7DEE-B9DF-4983-A8A8-96C7F514A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7640" y="579600"/>
          <a:ext cx="12160080" cy="2323800"/>
        </p:xfrm>
        <a:graphic>
          <a:graphicData uri="http://schemas.openxmlformats.org/drawingml/2006/table">
            <a:tbl>
              <a:tblPr/>
              <a:tblGrid>
                <a:gridCol w="6080040"/>
                <a:gridCol w="6080040"/>
              </a:tblGrid>
              <a:tr h="4575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571680" indent="-398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536400" indent="-363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7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536400" indent="-363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4 kg/m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anchor="t">
                      <a:noAutofit/>
                    </a:bodyPr>
                    <a:p>
                      <a:pPr marL="536400" indent="-363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pres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/80 mmH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80" y="3444840"/>
          <a:ext cx="12160440" cy="974880"/>
        </p:xfrm>
        <a:graphic>
          <a:graphicData uri="http://schemas.openxmlformats.org/drawingml/2006/table">
            <a:tbl>
              <a:tblPr/>
              <a:tblGrid>
                <a:gridCol w="6080040"/>
                <a:gridCol w="6080400"/>
              </a:tblGrid>
              <a:tr h="4575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tial blood t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marL="552600" indent="-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GT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/7.8 mmol/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1FD1-1527-4872-B51D-DB5C2A80F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should you treat this patie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insul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metform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t and lifestyle mod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metformin and insul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need treatment, repeat OGT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9080" y="25560"/>
          <a:ext cx="12160080" cy="1062000"/>
        </p:xfrm>
        <a:graphic>
          <a:graphicData uri="http://schemas.openxmlformats.org/drawingml/2006/table">
            <a:tbl>
              <a:tblPr/>
              <a:tblGrid>
                <a:gridCol w="1216008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54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DDE6-78A1-4F0B-86F2-7371B3ADB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268200" y="1352520"/>
            <a:ext cx="115887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 gestational diabetes mellitus, 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metformin should be offered when blood glucose targets are not met by modification in diet and exercise within 1–2 weeks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716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t should be prescribed after consultation with specialists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tformin should be continued in women who are already on the treatment before pregnancy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ation 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59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24CF-0DAD-44FB-8F1B-E58E6B2AE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should you treat this patie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insul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metform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t and lifestyle mod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metformin and insul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need treatment, repeat OGT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9080" y="25560"/>
          <a:ext cx="12160080" cy="1062000"/>
        </p:xfrm>
        <a:graphic>
          <a:graphicData uri="http://schemas.openxmlformats.org/drawingml/2006/table">
            <a:tbl>
              <a:tblPr/>
              <a:tblGrid>
                <a:gridCol w="1216008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62" name="Rounded Rectangle 3"/>
          <p:cNvSpPr/>
          <p:nvPr/>
        </p:nvSpPr>
        <p:spPr>
          <a:xfrm>
            <a:off x="201600" y="2652840"/>
            <a:ext cx="4495680" cy="828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C16C-894C-4854-A84D-568D78E83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103320" y="1295280"/>
            <a:ext cx="1208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e performs SMBG at hom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Arial"/>
                <a:ea typeface="Arial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0" y="2448000"/>
          <a:ext cx="12192120" cy="12207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  <a:gridCol w="3048120"/>
              </a:tblGrid>
              <a:tr h="579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-breakfas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-lunch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-dinn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-b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mmol/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mmol/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 mmol/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6 mmol/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9BCA-4888-4CE5-89D8-E692CFC6E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6:11:03Z</dcterms:created>
  <dc:creator>Norasyikin A Wahab</dc:creator>
  <dc:description/>
  <dc:language>en-US</dc:language>
  <cp:lastModifiedBy>Ainol</cp:lastModifiedBy>
  <cp:lastPrinted>2018-07-04T01:20:51Z</cp:lastPrinted>
  <dcterms:modified xsi:type="dcterms:W3CDTF">2018-07-19T06:25:16Z</dcterms:modified>
  <cp:revision>160</cp:revision>
  <dc:subject/>
  <dc:title>Case study</dc:title>
</cp:coreProperties>
</file>